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4.gif" ContentType="image/gif"/>
  <Override PartName="/ppt/media/image7.png" ContentType="image/png"/>
  <Override PartName="/ppt/media/image12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2982-518A-46D4-9257-8A53C5E8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F1E5-79EB-4F03-8878-C2F71E39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9A50-28E2-4B15-970F-7A0EDF0EA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C18A-0C01-4B55-987D-5C7691A9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4CC9-3BB0-4707-B45A-6B551B3F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CBBA-CB26-4BA4-A169-F4CBF342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994F-6C0E-403B-86FB-5E61DC6B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8F80-542D-4074-8CD9-0BA26001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562E-7C75-4B01-95C1-68B7536C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C4DC-CF1D-486A-A507-7EF572EC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1D41-4AE5-4CC2-8D58-8F12AD23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58E1-7012-4613-94FF-60853F95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9665-B728-4ACD-8903-9244A4DA1B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691503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2666880" y="2514600"/>
            <a:ext cx="464832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сха</a:t>
            </a:r>
            <a:endParaRPr b="1" i="1" lang="en-US" sz="60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990720" y="3886200"/>
            <a:ext cx="72388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авославные традиции.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ветлый праздник Пасхи.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267080" y="685440"/>
            <a:ext cx="4114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 течение сорока дней Пасхи, а особенно на первой неделе — самой торжественной — ходят друг к другу в гости, дарят крашеные яйца и куличи, играют в пасхальные игры. Особой популярностью у российской ребятни в старину пользовалась игра            «Катание яиц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jajtsa50"/>
          <p:cNvPicPr/>
          <p:nvPr/>
        </p:nvPicPr>
        <p:blipFill>
          <a:blip r:embed="rId1"/>
          <a:stretch/>
        </p:blipFill>
        <p:spPr>
          <a:xfrm>
            <a:off x="6781680" y="4780080"/>
            <a:ext cx="2362320" cy="20779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7" descr="98439089949eb623968adb.jpg"/>
          <p:cNvPicPr/>
          <p:nvPr/>
        </p:nvPicPr>
        <p:blipFill>
          <a:blip r:embed="rId2"/>
          <a:stretch/>
        </p:blipFill>
        <p:spPr>
          <a:xfrm>
            <a:off x="533520" y="990720"/>
            <a:ext cx="3493800" cy="5410080"/>
          </a:xfrm>
          <a:prstGeom prst="rect">
            <a:avLst/>
          </a:prstGeom>
          <a:ln w="19080">
            <a:solidFill>
              <a:srgbClr val="96969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6" name="WordArt 9"/>
          <p:cNvSpPr txBox="1"/>
          <p:nvPr/>
        </p:nvSpPr>
        <p:spPr>
          <a:xfrm>
            <a:off x="1066680" y="228600"/>
            <a:ext cx="7039080" cy="5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ые обычаи. Катание яиц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723920" y="1142640"/>
            <a:ext cx="4038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 старину невозможно было представить празднование Пасхи без качелей. Во всех дворах загодя устанавливались столбы, навешивались веревки, крепились доски - возводились общественные каче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73634_or.jpg"/>
          <p:cNvPicPr/>
          <p:nvPr/>
        </p:nvPicPr>
        <p:blipFill>
          <a:blip r:embed="rId2"/>
          <a:stretch/>
        </p:blipFill>
        <p:spPr>
          <a:xfrm>
            <a:off x="749160" y="1523880"/>
            <a:ext cx="3543480" cy="4800600"/>
          </a:xfrm>
          <a:prstGeom prst="rect">
            <a:avLst/>
          </a:prstGeom>
          <a:ln w="19080">
            <a:solidFill>
              <a:srgbClr val="96969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0" name="WordArt 9"/>
          <p:cNvSpPr txBox="1"/>
          <p:nvPr/>
        </p:nvSpPr>
        <p:spPr>
          <a:xfrm>
            <a:off x="1219320" y="304920"/>
            <a:ext cx="6553080" cy="71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схальные обычаи. Качели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random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5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ые обычаи.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Колокольный звон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 течение пасхальной недели во всех храмах разрешается любому желающему звонить в колокола, поэтому отовсюду звучит беспрерывный радостный колокольный звон, поддерживая праздничное настро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"/>
          <p:cNvPicPr/>
          <p:nvPr/>
        </p:nvPicPr>
        <p:blipFill>
          <a:blip r:embed="rId2"/>
          <a:stretch/>
        </p:blipFill>
        <p:spPr>
          <a:xfrm>
            <a:off x="792000" y="1600200"/>
            <a:ext cx="336708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zvon_.wma" descr=""/>
          <p:cNvPicPr/>
          <p:nvPr/>
        </p:nvPicPr>
        <p:blipFill>
          <a:blip r:embed="rId3"/>
          <a:stretch/>
        </p:blipFill>
        <p:spPr>
          <a:xfrm>
            <a:off x="4572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8308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914400" y="4038480"/>
            <a:ext cx="72579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" Не умирают обычаи, которым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 </a:t>
            </a: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определено быть вечными…"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 </a:t>
            </a: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Н.В.Гоголь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45" name="Picture 5" descr="634759417"/>
          <p:cNvPicPr/>
          <p:nvPr/>
        </p:nvPicPr>
        <p:blipFill>
          <a:blip r:embed="rId1"/>
          <a:stretch/>
        </p:blipFill>
        <p:spPr>
          <a:xfrm>
            <a:off x="1676520" y="380880"/>
            <a:ext cx="57150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4572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Говорят, что пасху ран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Отмечала вся стр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На качелях сидя, дру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Улыбалась детв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Молодёжь теперь не зн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Как же Пасху отмеч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Яйца красить, кулич стряп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И гостей к столу встреч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Заглянули в старину мы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Будто дождь омыл серд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И сегодня вам расскаж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О Воскресении Хри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480716133"/>
          <p:cNvPicPr/>
          <p:nvPr/>
        </p:nvPicPr>
        <p:blipFill>
          <a:blip r:embed="rId1"/>
          <a:stretch/>
        </p:blipFill>
        <p:spPr>
          <a:xfrm>
            <a:off x="4648320" y="380880"/>
            <a:ext cx="4324320" cy="5943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асха – это христианский праздник, который установлен в честь воскресения Иисуса Хр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Название получено от ветхозаветного праздника Пасхи, установленного Господом в память избавления еврейского народа от рабского подчинения египтян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Слово «Пасха» означает «переход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асха издавна праздновалась и по церковным канонам, и по народным обыча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676520" y="228600"/>
            <a:ext cx="622908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 - главный 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христианский праздник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50" name="Picture 5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4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асха – переходный праздник. Время этого праздника определяется так: за отправную точку берётся день весеннего равноденствия (21 марта). Затем люди смотрят на ночное небо и ждут полнолуния. И то воскресенье, которое последует за этим первым весенним полнолунием, и называется Пасхой (с 4апреля по 8ма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53" name="WordArt 6"/>
          <p:cNvSpPr txBox="1"/>
          <p:nvPr/>
        </p:nvSpPr>
        <p:spPr>
          <a:xfrm>
            <a:off x="2971800" y="609480"/>
            <a:ext cx="61722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505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Как вычисляется дат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505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505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разднования Пасхи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505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54" name="Picture 9" descr=""/>
          <p:cNvPicPr/>
          <p:nvPr/>
        </p:nvPicPr>
        <p:blipFill>
          <a:blip r:embed="rId2"/>
          <a:stretch/>
        </p:blipFill>
        <p:spPr>
          <a:xfrm>
            <a:off x="-152280" y="-152280"/>
            <a:ext cx="3504960" cy="2859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5"/>
          <p:cNvSpPr txBox="1"/>
          <p:nvPr/>
        </p:nvSpPr>
        <p:spPr>
          <a:xfrm>
            <a:off x="304920" y="152280"/>
            <a:ext cx="8229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505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Церковные каноны Пасх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505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47960" y="609480"/>
            <a:ext cx="4343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Великий Пост, Страстная неделя, Чистый четверг, Великая пятница, освящение пасхального уго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Ночное богослужение, крестное шествие вокруг хра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Колоко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зв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"/>
          <p:cNvPicPr/>
          <p:nvPr/>
        </p:nvPicPr>
        <p:blipFill>
          <a:blip r:embed="rId2"/>
          <a:stretch/>
        </p:blipFill>
        <p:spPr>
          <a:xfrm>
            <a:off x="0" y="1371600"/>
            <a:ext cx="4651200" cy="3932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jajtsa50"/>
          <p:cNvPicPr/>
          <p:nvPr/>
        </p:nvPicPr>
        <p:blipFill>
          <a:blip r:embed="rId1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114800" y="380520"/>
            <a:ext cx="5029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начинается с участия в пасхальном Богослужении. Оно совершенно особенное, отличающееся от обычных церковных служб, очень «лёгкое» и радостное. В храмах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асхальная служба начинается ровно в полночь, но лучше прийти в храм заранее, чтобы не оказаться за его порогом — большинство церкв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 пасхальную ночь переполн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5" descr="12.jpg"/>
          <p:cNvPicPr/>
          <p:nvPr/>
        </p:nvPicPr>
        <p:blipFill>
          <a:blip r:embed="rId2"/>
          <a:stretch/>
        </p:blipFill>
        <p:spPr>
          <a:xfrm>
            <a:off x="617400" y="1066680"/>
            <a:ext cx="3446640" cy="548640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" name="WordArt 11"/>
          <p:cNvSpPr txBox="1"/>
          <p:nvPr/>
        </p:nvSpPr>
        <p:spPr>
          <a:xfrm>
            <a:off x="1447920" y="152280"/>
            <a:ext cx="5943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разднование пасхи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2-688-01"/>
          <p:cNvPicPr/>
          <p:nvPr/>
        </p:nvPicPr>
        <p:blipFill>
          <a:blip r:embed="rId1"/>
          <a:stretch/>
        </p:blipFill>
        <p:spPr>
          <a:xfrm>
            <a:off x="0" y="533520"/>
            <a:ext cx="3157560" cy="39592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48320" y="91404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осле того,                                      как окончится служба, верующие «христосуются» — приветствуют друг друга целованием и словами «Христос воскресе!» Этот обычай очень древний и символизирует примирение и любов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jajtsa50"/>
          <p:cNvPicPr/>
          <p:nvPr/>
        </p:nvPicPr>
        <p:blipFill>
          <a:blip r:embed="rId2"/>
          <a:stretch/>
        </p:blipFill>
        <p:spPr>
          <a:xfrm>
            <a:off x="6588000" y="4610160"/>
            <a:ext cx="2556000" cy="22478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23665513_00011a.jpg"/>
          <p:cNvPicPr/>
          <p:nvPr/>
        </p:nvPicPr>
        <p:blipFill>
          <a:blip r:embed="rId3"/>
          <a:stretch/>
        </p:blipFill>
        <p:spPr>
          <a:xfrm>
            <a:off x="1447920" y="1447920"/>
            <a:ext cx="3314520" cy="5181480"/>
          </a:xfrm>
          <a:prstGeom prst="rect">
            <a:avLst/>
          </a:prstGeom>
          <a:ln w="28440">
            <a:solidFill>
              <a:srgbClr val="96969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WordArt 9"/>
          <p:cNvSpPr txBox="1"/>
          <p:nvPr/>
        </p:nvSpPr>
        <p:spPr>
          <a:xfrm>
            <a:off x="1676520" y="304920"/>
            <a:ext cx="5943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ое приветствие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med"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343040" y="129492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ридя дом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а иногда пря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в храме,     устраивают пасхальный пир. Главные угощения пасхального стола кулич, «пасха» и крашенные яй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11" descr="07.jpg"/>
          <p:cNvPicPr/>
          <p:nvPr/>
        </p:nvPicPr>
        <p:blipFill>
          <a:blip r:embed="rId1"/>
          <a:stretch/>
        </p:blipFill>
        <p:spPr>
          <a:xfrm>
            <a:off x="304920" y="533520"/>
            <a:ext cx="3392280" cy="4525920"/>
          </a:xfrm>
          <a:prstGeom prst="rect">
            <a:avLst/>
          </a:prstGeom>
          <a:ln w="9360">
            <a:solidFill>
              <a:srgbClr val="96969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0" name="Picture 10" descr="pasxa22"/>
          <p:cNvPicPr/>
          <p:nvPr/>
        </p:nvPicPr>
        <p:blipFill>
          <a:blip r:embed="rId2"/>
          <a:stretch/>
        </p:blipFill>
        <p:spPr>
          <a:xfrm>
            <a:off x="7086600" y="5121360"/>
            <a:ext cx="2057400" cy="1736640"/>
          </a:xfrm>
          <a:prstGeom prst="rect">
            <a:avLst/>
          </a:prstGeom>
          <a:ln w="0">
            <a:noFill/>
          </a:ln>
        </p:spPr>
      </p:pic>
      <p:sp>
        <p:nvSpPr>
          <p:cNvPr id="71" name="WordArt 11"/>
          <p:cNvSpPr txBox="1"/>
          <p:nvPr/>
        </p:nvSpPr>
        <p:spPr>
          <a:xfrm>
            <a:off x="1905120" y="152280"/>
            <a:ext cx="5715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Пасхальный пир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72" name="Picture 12" descr="03"/>
          <p:cNvPicPr/>
          <p:nvPr/>
        </p:nvPicPr>
        <p:blipFill>
          <a:blip r:embed="rId3"/>
          <a:stretch/>
        </p:blipFill>
        <p:spPr>
          <a:xfrm>
            <a:off x="228600" y="3962520"/>
            <a:ext cx="4103640" cy="2651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0-04-16T14:10:42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